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9C6A-D90E-46F4-8AE4-EA284F9725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52EE-C1A5-4144-9966-A79102BF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36DC9-E6B0-4A02-B870-7080F5F9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4FAC-7614-4756-8F78-8EC841BDB1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1D3F-2B93-47E2-AFB8-D4E516BB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9B4D-C3F2-4E3C-835A-09FC6541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A1296-726F-4687-8B09-E07DA698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725E4-FD29-4810-952B-0B432E1BC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3081-DAB2-4A04-B0AC-5A991DC5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3D49-C65F-4079-937A-CA6D7AC8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15ABE-468F-4715-8B44-29AE7D8B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7AB2-A1C2-4A24-B5E6-4DD01E48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9D90-ED4D-4331-BAB0-0C25D85C01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四章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颈椎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动脉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眩晕：是主要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觉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猝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感神经型颈椎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颈交感神经受周围病变组织刺激所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表现为交感神经兴奋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患者表现为交感神经抑制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侧位、左右斜位和前屈后伸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片检查对诊断有重要参考价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育性颈椎管狭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颌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颈托或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推拿、按摩和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2" descr="图33-3 围领"/>
          <p:cNvPicPr/>
          <p:nvPr/>
        </p:nvPicPr>
        <p:blipFill>
          <a:blip r:embed="rId1"/>
          <a:stretch/>
        </p:blipFill>
        <p:spPr>
          <a:xfrm>
            <a:off x="1873080" y="1627200"/>
            <a:ext cx="5356440" cy="39625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3934080" y="5651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围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非手术治疗无效的神经根型、椎动脉型和交感型颈椎病患者，或脊髓型颈椎病症状进行性加重者，可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手术入路不同可分前路手术、前外侧手术和后路手术三种，以前路和后路手术多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颈椎病，并拟行颈椎前路手术治疗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术后可能出现最危急的并发症是什么？②术后主要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颈部肌肉痉挛，脊髓神经根受压迫或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 与步态不稳、椎动脉供血不足引起的眩晕或猝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颈肩部活动受限、握力减弱或精细动作失调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、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和佩戴围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自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颈椎病的病因和主要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颈椎病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颈椎病患者出现颈肩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颈椎病的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颈椎病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颈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，四肢感觉、反射和运动功能，引流管有无脱出，是否通畅，引流液的颜色、性质和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颈部平直，避免长时间低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日主动加大头颈部活动范围，避免颈部固定在一种姿势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时枕头宜中间低两侧高，头颈部压下后应与一侧肩宽相平，长度超过肩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6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卧床时不让头部过伸或过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项背肌锻炼可加强颈肩部肌肉力量，避免由于颈椎不稳造成颈椎间盘退行性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颈椎间盘退行性变是最基本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颈椎病有神经根型、脊髓型、椎动脉型、交感神经型颈椎病四种类型，神经根型最为多见，以颈肩痛和颈部僵直表现突出，颈肩、上肢皮肤可有麻木、过敏等感觉异常，上肢牵拉试验和压头试验均为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非手术治疗包括牵引、戴颈托或围领、推拿按摩和理疗、药物治疗等，手术有前路手术、前外侧手术和后路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74304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重点是提供心理支持、缓解疼痛、佩戴围领、预防外伤、鼓励自理等措施，根据手术入路做好术前训练。术后应保护颈部，做好病情观察护理，指导功能锻炼。另外，对于健康人和颈椎病患者均应进行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椎病是颈椎间盘退行性变及其继发关节、韧带的变性、增生、钙化造成颈段脊柱不稳定，最后刺激或压迫脊髓、神经根、椎动脉和交感神经，出现相应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以上的人群，男性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好发部位依次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4-1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颈肩痛伴左手麻木半年，疼痛向左上肢放射，近一年用左手持物时经常出现持物不稳，物品掉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颈部活动受限，左手及前臂感觉减退，上肢牵拉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压头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颈椎曲度变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间盘向椎管内突出，压迫左侧神经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率最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先有颈肩痛和颈部僵直，短期内疼痛加重并向上肢放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以单侧为多，与头部或上肢姿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根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有上肢肌力下降、握力减弱、手指动作不灵活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肢牵拉试验（又称臂丛神经牵拉试验）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头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组合 6"/>
          <p:cNvGrpSpPr/>
          <p:nvPr/>
        </p:nvGrpSpPr>
        <p:grpSpPr>
          <a:xfrm>
            <a:off x="684360" y="1484280"/>
            <a:ext cx="3755880" cy="4464720"/>
            <a:chOff x="684360" y="1484280"/>
            <a:chExt cx="3755880" cy="4464720"/>
          </a:xfrm>
        </p:grpSpPr>
        <p:pic>
          <p:nvPicPr>
            <p:cNvPr id="123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1484280"/>
              <a:ext cx="3755880" cy="388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"/>
            <p:cNvSpPr/>
            <p:nvPr/>
          </p:nvSpPr>
          <p:spPr>
            <a:xfrm>
              <a:off x="1665360" y="558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上肢牵拉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5148360" y="1366920"/>
            <a:ext cx="3168720" cy="4590360"/>
            <a:chOff x="5148360" y="1366920"/>
            <a:chExt cx="3168720" cy="4590360"/>
          </a:xfrm>
        </p:grpSpPr>
        <p:pic>
          <p:nvPicPr>
            <p:cNvPr id="12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1366920"/>
              <a:ext cx="3168720" cy="42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矩形 5"/>
            <p:cNvSpPr/>
            <p:nvPr/>
          </p:nvSpPr>
          <p:spPr>
            <a:xfrm>
              <a:off x="5693760" y="5589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压头试验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由于各种病变压迫或刺激脊髓引起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以侧束、锥体束损害表现突出，患者多先出现一侧或双侧下肢乏力，行走、持物不稳，有踩棉花样感觉，但颈部疼痛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十四章 颈椎病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髓型颈椎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逐渐加重，病变累及到上肢，出现手部发麻，握力减退，精细活动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还可有躯体感觉障碍，躯干有束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还有二便困难，性功能减退，病理反射阳性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5:03Z</dcterms:modified>
  <cp:revision>117</cp:revision>
  <dc:subject/>
  <dc:title>内科护理学</dc:title>
</cp:coreProperties>
</file>